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4BE-C4EC-4C38-9167-ACF5A2A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FC9-012E-4D00-AD93-ADBEFD34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ACE-F2F7-43A9-AC20-BAA090CF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8F5-8B8C-49EF-ABD6-0F4B8FA6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776-BDAF-4A3A-8833-32FA4955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6DE0-3280-4016-BAC8-A527E80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B785-406D-4E8F-9A8B-DED7CE0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F8B-CA42-4AB8-BC7C-744A1FC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C68-2DF8-477F-A9C5-DA51D47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C03D-50CA-4F3F-8681-BC64278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989-4C37-48FB-9A09-EE13DA9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FD4-7668-4696-910B-DFAF5CB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3D62-7F09-4530-9681-ABD8C1D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B7CC-1C2C-4664-86F7-7F4BDE4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230-5DB0-459D-80A5-5FDB4842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C8D-06A2-4BC3-83DE-22D4D792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7212-8F61-4710-A624-A5B068F6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41F-B6A5-4369-8B58-D70491B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644-2D4B-4F43-AED7-585D49D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065-4103-4103-BA94-87A4E19E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981-E543-4428-B331-831CC7B5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55B-194D-4A85-9913-8D4E7BF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7FB-B98C-49C8-A776-E8C1BEF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771-8906-475F-897B-2C404296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838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72F6-CD59-4317-BCD1-875AB08D2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10666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9A06-4DAA-4F2B-BADF-5C72AED1D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ata cleaning: hints and tip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icity Cle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a Users’ Gro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don, 17 &amp;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ntifying a moving target (3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forval loop to examine the relationship between each year’s observed value and the observed value for the previous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ing duplicates – can be done by hand or automatically using the “duplicates” set of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he merge command – to merge on a specific variable, to multiply merge data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ing a moving target variable – the use of the “forval”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 – one of the most time consuming jobs of a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ays of attacking the same problem when using St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lk will describe some common problems and propose possibl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mostly reminde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to the first data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ing and removing duplicates – by h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rging data and uses of the merge comm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ating a moving target vari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tu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se-control study carried across 3 central European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of interest: exposure to chemicals in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interest: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dentifying duplicates in a datase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be done automatically (using the duplicates set of comm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emonstrate a manual method of identifying dupl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different pos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data have been entered on more than one occas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dentifying duplicates in a datase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be done automatically (using the duplicates set of comma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emonstrate a manual method of identifying dupl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different pos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data have been entered on more than one occas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ata have been entered using the same identifier (id numb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merge comm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cessary command in data management of most big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different uses of the merge command. We look at two of th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merge on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merge on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ntifying a moving targ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ario: we have data for each town giving the chemical concentration for each year between 1982 and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we need to identify the year counting backwards from 2002 in which the chemical changed from its 200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 We need to overwrite the 2002 value with a new value, and overwrite backwards until the value 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ntifying a moving target (2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1905120"/>
          <a:ext cx="7854840" cy="4743360"/>
        </p:xfrm>
        <a:graphic>
          <a:graphicData uri="http://schemas.openxmlformats.org/drawingml/2006/table">
            <a:tbl>
              <a:tblPr/>
              <a:tblGrid>
                <a:gridCol w="2112840"/>
                <a:gridCol w="1914480"/>
                <a:gridCol w="1913040"/>
                <a:gridCol w="1914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city Clemens 18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9:21:53Z</dcterms:created>
  <dc:creator>Fliss</dc:creator>
  <dc:description/>
  <dc:language>en-US</dc:language>
  <cp:lastModifiedBy>EMSUFCLE</cp:lastModifiedBy>
  <dcterms:modified xsi:type="dcterms:W3CDTF">2005-05-24T16:18:17Z</dcterms:modified>
  <cp:revision>21</cp:revision>
  <dc:subject/>
  <dc:title>Data cleaning: hints and tips</dc:title>
</cp:coreProperties>
</file>