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png" ContentType="image/png"/>
  <Override PartName="/ppt/media/image3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04529-389A-4D4F-8E1F-E36415B88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4D095-7F86-4353-AF40-209A60146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58037-3AB6-495A-96CE-D3F1734B7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22AD2-5DEA-444D-8781-594770798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E1449-FF7A-404A-84A7-09E7075AB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906A5-EE09-47C6-A0B3-C1A0C3E35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C4488-DA7A-4CEB-B99B-679936896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A1D2F-D74D-409D-8566-7E2BBFBEB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019CA-4DEA-4CC0-B38C-04D53B829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01F5B-C825-4E46-927E-E493015BE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B515E-CC0D-4354-B30B-A56BE26DD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1ADA5-DF85-44D8-8557-0953B100D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B059F-3234-4F89-8C69-A9372933CB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2120" y="1143000"/>
            <a:ext cx="7696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nome-wide linkage scans &amp; basic bioinformatics using Stata 8.0 / 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950160" y="4191120"/>
            <a:ext cx="1888920" cy="1800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762120" y="3733920"/>
            <a:ext cx="7010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by Andr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in &amp; Genetic Epidemiology Research U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 Thomas’ Hospital, Lond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ne 20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(same) statistical problem (=&gt; GLM)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990720" y="1676520"/>
            <a:ext cx="6933600" cy="4955400"/>
            <a:chOff x="990720" y="1676520"/>
            <a:chExt cx="6933600" cy="4955400"/>
          </a:xfrm>
        </p:grpSpPr>
        <p:grpSp>
          <p:nvGrpSpPr>
            <p:cNvPr id="63" name=""/>
            <p:cNvGrpSpPr/>
            <p:nvPr/>
          </p:nvGrpSpPr>
          <p:grpSpPr>
            <a:xfrm>
              <a:off x="1676160" y="1676520"/>
              <a:ext cx="6248160" cy="4955400"/>
              <a:chOff x="1676160" y="1676520"/>
              <a:chExt cx="6248160" cy="4955400"/>
            </a:xfrm>
          </p:grpSpPr>
          <p:sp>
            <p:nvSpPr>
              <p:cNvPr id="64" name=""/>
              <p:cNvSpPr/>
              <p:nvPr/>
            </p:nvSpPr>
            <p:spPr>
              <a:xfrm flipH="1" rot="5361600">
                <a:off x="1480320" y="2630520"/>
                <a:ext cx="2971800" cy="1517040"/>
              </a:xfrm>
              <a:custGeom>
                <a:avLst/>
                <a:gdLst/>
                <a:ahLst/>
                <a:rect l="l" t="t" r="r" b="b"/>
                <a:pathLst>
                  <a:path w="1488" h="1052">
                    <a:moveTo>
                      <a:pt x="0" y="1036"/>
                    </a:moveTo>
                    <a:cubicBezTo>
                      <a:pt x="13" y="877"/>
                      <a:pt x="48" y="166"/>
                      <a:pt x="80" y="83"/>
                    </a:cubicBezTo>
                    <a:cubicBezTo>
                      <a:pt x="112" y="0"/>
                      <a:pt x="169" y="449"/>
                      <a:pt x="192" y="540"/>
                    </a:cubicBezTo>
                    <a:cubicBezTo>
                      <a:pt x="215" y="631"/>
                      <a:pt x="201" y="590"/>
                      <a:pt x="216" y="630"/>
                    </a:cubicBezTo>
                    <a:cubicBezTo>
                      <a:pt x="231" y="670"/>
                      <a:pt x="259" y="741"/>
                      <a:pt x="280" y="782"/>
                    </a:cubicBezTo>
                    <a:cubicBezTo>
                      <a:pt x="301" y="823"/>
                      <a:pt x="324" y="856"/>
                      <a:pt x="340" y="879"/>
                    </a:cubicBezTo>
                    <a:cubicBezTo>
                      <a:pt x="357" y="901"/>
                      <a:pt x="356" y="901"/>
                      <a:pt x="379" y="919"/>
                    </a:cubicBezTo>
                    <a:cubicBezTo>
                      <a:pt x="402" y="937"/>
                      <a:pt x="449" y="968"/>
                      <a:pt x="479" y="985"/>
                    </a:cubicBezTo>
                    <a:cubicBezTo>
                      <a:pt x="510" y="1001"/>
                      <a:pt x="512" y="1009"/>
                      <a:pt x="565" y="1020"/>
                    </a:cubicBezTo>
                    <a:cubicBezTo>
                      <a:pt x="618" y="1030"/>
                      <a:pt x="640" y="1043"/>
                      <a:pt x="794" y="1048"/>
                    </a:cubicBezTo>
                    <a:cubicBezTo>
                      <a:pt x="948" y="1052"/>
                      <a:pt x="1344" y="1048"/>
                      <a:pt x="1488" y="1048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flipH="1" rot="5361600">
                <a:off x="3957480" y="3201480"/>
                <a:ext cx="2210040" cy="1292760"/>
              </a:xfrm>
              <a:custGeom>
                <a:avLst/>
                <a:gdLst/>
                <a:ahLst/>
                <a:rect l="l" t="t" r="r" b="b"/>
                <a:pathLst>
                  <a:path w="1488" h="1052">
                    <a:moveTo>
                      <a:pt x="0" y="1036"/>
                    </a:moveTo>
                    <a:cubicBezTo>
                      <a:pt x="13" y="877"/>
                      <a:pt x="48" y="166"/>
                      <a:pt x="80" y="83"/>
                    </a:cubicBezTo>
                    <a:cubicBezTo>
                      <a:pt x="112" y="0"/>
                      <a:pt x="169" y="449"/>
                      <a:pt x="192" y="540"/>
                    </a:cubicBezTo>
                    <a:cubicBezTo>
                      <a:pt x="215" y="631"/>
                      <a:pt x="201" y="590"/>
                      <a:pt x="216" y="630"/>
                    </a:cubicBezTo>
                    <a:cubicBezTo>
                      <a:pt x="231" y="670"/>
                      <a:pt x="259" y="741"/>
                      <a:pt x="280" y="782"/>
                    </a:cubicBezTo>
                    <a:cubicBezTo>
                      <a:pt x="301" y="823"/>
                      <a:pt x="324" y="856"/>
                      <a:pt x="340" y="879"/>
                    </a:cubicBezTo>
                    <a:cubicBezTo>
                      <a:pt x="357" y="901"/>
                      <a:pt x="356" y="901"/>
                      <a:pt x="379" y="919"/>
                    </a:cubicBezTo>
                    <a:cubicBezTo>
                      <a:pt x="402" y="937"/>
                      <a:pt x="449" y="968"/>
                      <a:pt x="479" y="985"/>
                    </a:cubicBezTo>
                    <a:cubicBezTo>
                      <a:pt x="510" y="1001"/>
                      <a:pt x="512" y="1009"/>
                      <a:pt x="565" y="1020"/>
                    </a:cubicBezTo>
                    <a:cubicBezTo>
                      <a:pt x="618" y="1030"/>
                      <a:pt x="640" y="1043"/>
                      <a:pt x="794" y="1048"/>
                    </a:cubicBezTo>
                    <a:cubicBezTo>
                      <a:pt x="948" y="1052"/>
                      <a:pt x="1344" y="1048"/>
                      <a:pt x="1488" y="1048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flipH="1" rot="5361600">
                <a:off x="6246000" y="3734280"/>
                <a:ext cx="1523880" cy="1064880"/>
              </a:xfrm>
              <a:custGeom>
                <a:avLst/>
                <a:gdLst/>
                <a:ahLst/>
                <a:rect l="l" t="t" r="r" b="b"/>
                <a:pathLst>
                  <a:path w="1488" h="1052">
                    <a:moveTo>
                      <a:pt x="0" y="1036"/>
                    </a:moveTo>
                    <a:cubicBezTo>
                      <a:pt x="13" y="877"/>
                      <a:pt x="48" y="166"/>
                      <a:pt x="80" y="83"/>
                    </a:cubicBezTo>
                    <a:cubicBezTo>
                      <a:pt x="112" y="0"/>
                      <a:pt x="169" y="449"/>
                      <a:pt x="192" y="540"/>
                    </a:cubicBezTo>
                    <a:cubicBezTo>
                      <a:pt x="215" y="631"/>
                      <a:pt x="201" y="590"/>
                      <a:pt x="216" y="630"/>
                    </a:cubicBezTo>
                    <a:cubicBezTo>
                      <a:pt x="231" y="670"/>
                      <a:pt x="259" y="741"/>
                      <a:pt x="280" y="782"/>
                    </a:cubicBezTo>
                    <a:cubicBezTo>
                      <a:pt x="301" y="823"/>
                      <a:pt x="324" y="856"/>
                      <a:pt x="340" y="879"/>
                    </a:cubicBezTo>
                    <a:cubicBezTo>
                      <a:pt x="357" y="901"/>
                      <a:pt x="356" y="901"/>
                      <a:pt x="379" y="919"/>
                    </a:cubicBezTo>
                    <a:cubicBezTo>
                      <a:pt x="402" y="937"/>
                      <a:pt x="449" y="968"/>
                      <a:pt x="479" y="985"/>
                    </a:cubicBezTo>
                    <a:cubicBezTo>
                      <a:pt x="510" y="1001"/>
                      <a:pt x="512" y="1009"/>
                      <a:pt x="565" y="1020"/>
                    </a:cubicBezTo>
                    <a:cubicBezTo>
                      <a:pt x="618" y="1030"/>
                      <a:pt x="640" y="1043"/>
                      <a:pt x="794" y="1048"/>
                    </a:cubicBezTo>
                    <a:cubicBezTo>
                      <a:pt x="948" y="1052"/>
                      <a:pt x="1344" y="1048"/>
                      <a:pt x="1488" y="1048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1676160" y="5410440"/>
                <a:ext cx="6248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V="1">
                <a:off x="1676160" y="1676520"/>
                <a:ext cx="0" cy="3733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209320" y="4572000"/>
                <a:ext cx="5638320" cy="381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2514240" y="5486400"/>
                <a:ext cx="304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4647600" y="5562720"/>
                <a:ext cx="304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781320" y="5562720"/>
                <a:ext cx="380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3657240" y="6172200"/>
                <a:ext cx="2666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Identity by Descen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" name=""/>
            <p:cNvSpPr/>
            <p:nvPr/>
          </p:nvSpPr>
          <p:spPr>
            <a:xfrm rot="16200000">
              <a:off x="382320" y="3044880"/>
              <a:ext cx="1676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X-Y)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838080" y="2362320"/>
            <a:ext cx="7620120" cy="3581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LM solution 1 : Gamma regres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l the known relationship between mean &amp; varianc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reely estimate the residual varianc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9480" y="2444760"/>
            <a:ext cx="8229600" cy="44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[(X+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Var[X+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 u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[(X+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 Var   Var(X+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) 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(X+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)    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d(X+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 u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V(u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r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-1   for E[(X-Y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 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 1   for E[(X+Y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324480" y="39625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8001000" y="3505320"/>
            <a:ext cx="76320" cy="838080"/>
          </a:xfrm>
          <a:custGeom>
            <a:avLst/>
            <a:gdLst>
              <a:gd name="textAreaLeft" fmla="*/ 0 w 76320"/>
              <a:gd name="textAreaRight" fmla="*/ 53640 w 76320"/>
              <a:gd name="textAreaTop" fmla="*/ 34920 h 838080"/>
              <a:gd name="textAreaBottom" fmla="*/ 80316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267080" y="3505320"/>
            <a:ext cx="152640" cy="838080"/>
          </a:xfrm>
          <a:custGeom>
            <a:avLst/>
            <a:gdLst>
              <a:gd name="textAreaLeft" fmla="*/ 44640 w 152640"/>
              <a:gd name="textAreaRight" fmla="*/ 153000 w 152640"/>
              <a:gd name="textAreaTop" fmla="*/ 34920 h 838080"/>
              <a:gd name="textAreaBottom" fmla="*/ 80316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172200" y="3581280"/>
            <a:ext cx="76320" cy="762120"/>
          </a:xfrm>
          <a:custGeom>
            <a:avLst/>
            <a:gdLst>
              <a:gd name="textAreaLeft" fmla="*/ 22320 w 76320"/>
              <a:gd name="textAreaRight" fmla="*/ 76320 w 76320"/>
              <a:gd name="textAreaTop" fmla="*/ 31680 h 762120"/>
              <a:gd name="textAreaBottom" fmla="*/ 73044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543800" y="3581280"/>
            <a:ext cx="76320" cy="762120"/>
          </a:xfrm>
          <a:custGeom>
            <a:avLst/>
            <a:gdLst>
              <a:gd name="textAreaLeft" fmla="*/ 0 w 76320"/>
              <a:gd name="textAreaRight" fmla="*/ 53640 w 76320"/>
              <a:gd name="textAreaTop" fmla="*/ 31680 h 762120"/>
              <a:gd name="textAreaBottom" fmla="*/ 7304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LS, VC and Gamma regression residuals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OL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X+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)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Var[X +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]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~ N(0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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HE,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V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X+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)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~ N(0,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[X +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]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&gt;       (X+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)          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 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~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~ G(1, 2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[X +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Gam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X+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)          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 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~ G(1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[X +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1219320" y="3352680"/>
            <a:ext cx="4038120" cy="2819520"/>
            <a:chOff x="1219320" y="3352680"/>
            <a:chExt cx="4038120" cy="2819520"/>
          </a:xfrm>
        </p:grpSpPr>
        <p:grpSp>
          <p:nvGrpSpPr>
            <p:cNvPr id="87" name=""/>
            <p:cNvGrpSpPr/>
            <p:nvPr/>
          </p:nvGrpSpPr>
          <p:grpSpPr>
            <a:xfrm>
              <a:off x="1219320" y="3809880"/>
              <a:ext cx="4038120" cy="2362320"/>
              <a:chOff x="1219320" y="3809880"/>
              <a:chExt cx="4038120" cy="2362320"/>
            </a:xfrm>
          </p:grpSpPr>
          <p:grpSp>
            <p:nvGrpSpPr>
              <p:cNvPr id="88" name=""/>
              <p:cNvGrpSpPr/>
              <p:nvPr/>
            </p:nvGrpSpPr>
            <p:grpSpPr>
              <a:xfrm>
                <a:off x="5105160" y="3886200"/>
                <a:ext cx="152280" cy="152280"/>
                <a:chOff x="5105160" y="3886200"/>
                <a:chExt cx="152280" cy="152280"/>
              </a:xfrm>
            </p:grpSpPr>
            <p:sp>
              <p:nvSpPr>
                <p:cNvPr id="89" name=""/>
                <p:cNvSpPr/>
                <p:nvPr/>
              </p:nvSpPr>
              <p:spPr>
                <a:xfrm>
                  <a:off x="5105160" y="3886200"/>
                  <a:ext cx="152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>
                  <a:off x="5105160" y="3962160"/>
                  <a:ext cx="152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5105160" y="4038480"/>
                  <a:ext cx="152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2" name=""/>
              <p:cNvSpPr/>
              <p:nvPr/>
            </p:nvSpPr>
            <p:spPr>
              <a:xfrm>
                <a:off x="1371600" y="4114800"/>
                <a:ext cx="1675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295280" y="5638680"/>
                <a:ext cx="1676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2895480" y="5334120"/>
                <a:ext cx="151920" cy="838080"/>
              </a:xfrm>
              <a:custGeom>
                <a:avLst/>
                <a:gdLst>
                  <a:gd name="textAreaLeft" fmla="*/ 0 w 151920"/>
                  <a:gd name="textAreaRight" fmla="*/ 106560 w 151920"/>
                  <a:gd name="textAreaTop" fmla="*/ 34920 h 838080"/>
                  <a:gd name="textAreaBottom" fmla="*/ 803160 h 838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10800" y="0"/>
                      <a:pt x="21600" y="900"/>
                      <a:pt x="21600" y="1800"/>
                    </a:cubicBezTo>
                    <a:lnTo>
                      <a:pt x="21600" y="19800"/>
                    </a:lnTo>
                    <a:cubicBezTo>
                      <a:pt x="21600" y="20700"/>
                      <a:pt x="108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219320" y="5334120"/>
                <a:ext cx="152280" cy="838080"/>
              </a:xfrm>
              <a:custGeom>
                <a:avLst/>
                <a:gdLst>
                  <a:gd name="textAreaLeft" fmla="*/ 44640 w 152280"/>
                  <a:gd name="textAreaRight" fmla="*/ 152640 w 152280"/>
                  <a:gd name="textAreaTop" fmla="*/ 34920 h 838080"/>
                  <a:gd name="textAreaBottom" fmla="*/ 803160 h 838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0800" y="0"/>
                      <a:pt x="0" y="900"/>
                      <a:pt x="0" y="1800"/>
                    </a:cubicBezTo>
                    <a:lnTo>
                      <a:pt x="0" y="19800"/>
                    </a:lnTo>
                    <a:cubicBezTo>
                      <a:pt x="0" y="20700"/>
                      <a:pt x="10800" y="21600"/>
                      <a:pt x="2160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2895480" y="3809880"/>
                <a:ext cx="151920" cy="838440"/>
              </a:xfrm>
              <a:custGeom>
                <a:avLst/>
                <a:gdLst>
                  <a:gd name="textAreaLeft" fmla="*/ 0 w 151920"/>
                  <a:gd name="textAreaRight" fmla="*/ 106560 w 151920"/>
                  <a:gd name="textAreaTop" fmla="*/ 34920 h 838440"/>
                  <a:gd name="textAreaBottom" fmla="*/ 803520 h 8384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10800" y="0"/>
                      <a:pt x="21600" y="900"/>
                      <a:pt x="21600" y="1800"/>
                    </a:cubicBezTo>
                    <a:lnTo>
                      <a:pt x="21600" y="19800"/>
                    </a:lnTo>
                    <a:cubicBezTo>
                      <a:pt x="21600" y="20700"/>
                      <a:pt x="108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295280" y="3809880"/>
                <a:ext cx="151920" cy="838440"/>
              </a:xfrm>
              <a:custGeom>
                <a:avLst/>
                <a:gdLst>
                  <a:gd name="textAreaLeft" fmla="*/ 44640 w 151920"/>
                  <a:gd name="textAreaRight" fmla="*/ 152280 w 151920"/>
                  <a:gd name="textAreaTop" fmla="*/ 34920 h 838440"/>
                  <a:gd name="textAreaBottom" fmla="*/ 803520 h 8384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0800" y="0"/>
                      <a:pt x="0" y="900"/>
                      <a:pt x="0" y="1800"/>
                    </a:cubicBezTo>
                    <a:lnTo>
                      <a:pt x="0" y="19800"/>
                    </a:lnTo>
                    <a:cubicBezTo>
                      <a:pt x="0" y="20700"/>
                      <a:pt x="10800" y="21600"/>
                      <a:pt x="2160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" name=""/>
            <p:cNvSpPr/>
            <p:nvPr/>
          </p:nvSpPr>
          <p:spPr>
            <a:xfrm>
              <a:off x="1371600" y="3352680"/>
              <a:ext cx="1447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mbining linkage information from </a:t>
            </a:r>
            <a:br>
              <a:rPr sz="32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(X-Y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 and (X+Y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LM solution 2 : Data “stacking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iven MVN, the residual coefficients of variation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) fo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X-Y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and (X+Y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re both equal to 2 and residuals are independent of each o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nder these circumstances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GLM fo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X-Y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be jointly maximised with the GLM fo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X+Y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in a single “stacked” dataset (Weesie, 1999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u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V(u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) &amp; the relationship between them, are correctly specified for (X-Y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and (X+Y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within one model providing a single estimate of Q &amp; signific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well does GLM perform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iteria for evaluating QTL mapping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LM statistical proper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63244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ower of the statistic under ideal conditions (i.e. here, MV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obustness of the Type I error (to departures of non-normality or selected sampl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obustness of power (also to departures of non-normality or selected sampl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7391520" y="1752480"/>
            <a:ext cx="1752480" cy="9907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7696080" y="2895480"/>
            <a:ext cx="1067040" cy="60336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7696080" y="4038480"/>
            <a:ext cx="1067040" cy="6033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8153280" y="1523880"/>
            <a:ext cx="990720" cy="3505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bustness to Type I an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e II error using GL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30592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548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 REM yields 3 key results (Barber GE 2004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48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48280" indent="-548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[(X-Y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 = u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(K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1)/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48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48280" indent="-548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[(X+Y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 = u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 + ...) + u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….) + (…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48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48280" indent="-548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v[(X-Y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(X+Y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 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K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3)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48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48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mplying that the combined analysis of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X-Y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and (X+Y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for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on-norm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phenotypes is not straightforward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48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910840" y="2665440"/>
            <a:ext cx="2533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wher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K</a:t>
            </a:r>
            <a:r>
              <a:rPr b="0" lang="en-US" sz="16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= Kurtosis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pecific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ategies for combined analysis, for non-MVN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” data / estimate single overall residual coefficient of variation fo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X-Y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and (X+Y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/ estimate a constant covariance / Huber robust estimate of variance for Q (conserves Type I, only partly conserves Type II erro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eta-analyse (X-Y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and (X+Y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with both residual coefficients of variation freely estimated + estimate of constant covari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odel (X-Y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alone, where non-MVN extreme or most of the linkage information contained within (X-Y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i.e. high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dvantage of GLM cf OLS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0010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rect specification for residual err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 gain in po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ortant practical implications for individual studies : potentially more accurate peak location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rrect diagnostic residua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ssential for accurate model-fit assess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57200" y="3352680"/>
            <a:ext cx="8077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dvantage of GLM cf VC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Arial"/>
              </a:rPr>
              <a:t>MVN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4267080"/>
            <a:ext cx="800100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obust to deviations from phenotypic normality (free estimation of coefficient of vari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ndard VC assumes normality for (X-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) and therefore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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for (X-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)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2,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which makes standard VC very sensitive to departures from phenotypic norm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762120" y="6094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62120" y="1828800"/>
            <a:ext cx="777240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lementing linkage analysis as GL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 fit diagnost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arge dataset (Stata/SE): genome-wide data check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actical advantages to GL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MS Mincho"/>
              </a:rPr>
              <a:t>Utility of residual diagnostics on a genome wide ba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MS Mincho"/>
              </a:rPr>
              <a:t>Robust estimates of significance, such as Huber sandwich estimates [Huber, 1962; Newson, 1999], bootstrap routines, permutation tests [Hardin and Hilbe, 2001]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MS Mincho"/>
              </a:rPr>
              <a:t>Probability weighting to utilize the full probability distribution of the number of alleles shared IB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MS Mincho"/>
              </a:rPr>
              <a:t>Computationally fast and easy to impl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52280" y="990720"/>
            <a:ext cx="899172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pture program drop 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gram define 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ostfile `filename’ &lt;scalars to be saved&gt; using gs_results.d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ile `chr’ &lt;=23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qui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glm traitsq mibd, f(gamma) l(identity) robu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ave parameters of inter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ost `filename’ (`chr’) (`cM’) (`N’) (`qtl’) (`Z’) (`sig’) (`LOD’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ostclose `filename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nd 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57200" y="0"/>
            <a:ext cx="8077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script structu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09480" y="1371600"/>
            <a:ext cx="777240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fractive error for unselected female dizygotic twin pairs from the St Thomas' Adult Twin Registry was obtained using a Humphrey 670 autorefractor, and the spherical equivalent obtained for each sib-pai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ultipoint IBD allele sharing was estimated using genehunter2 for autosomal chromosomes and Merlin for chr.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IBD &amp; IBDs imported and saved in Stata/SE (large files!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57200" y="228600"/>
            <a:ext cx="8077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of genome-wide scan : myop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084320" y="0"/>
            <a:ext cx="70689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OD plot for refractive err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228600" y="914400"/>
            <a:ext cx="891540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762120" y="914400"/>
            <a:ext cx="7696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Bioinformatics” in Sta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09480" y="1828800"/>
            <a:ext cx="777240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 fontScale="93000"/>
          </a:bodyPr>
          <a:p>
            <a:pPr marL="318960" indent="-31896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of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po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rocedure to save summary results for MIBDs, individual markers and sib-pai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Genome-wide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information content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plots based on marker IBD var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arker order checking &amp; genetic distance interpolation to place markers on the Decode genetic map using the latest physical distance (NCBI build 34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"/>
          <p:cNvGrpSpPr/>
          <p:nvPr/>
        </p:nvGrpSpPr>
        <p:grpSpPr>
          <a:xfrm>
            <a:off x="752400" y="1031760"/>
            <a:ext cx="8113680" cy="4800600"/>
            <a:chOff x="752400" y="1031760"/>
            <a:chExt cx="8113680" cy="4800600"/>
          </a:xfrm>
        </p:grpSpPr>
        <p:pic>
          <p:nvPicPr>
            <p:cNvPr id="129" name="" descr=""/>
            <p:cNvPicPr/>
            <p:nvPr/>
          </p:nvPicPr>
          <p:blipFill>
            <a:blip r:embed="rId1"/>
            <a:stretch/>
          </p:blipFill>
          <p:spPr>
            <a:xfrm>
              <a:off x="752400" y="1031760"/>
              <a:ext cx="8113680" cy="480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>
              <a:off x="753840" y="202068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808080"/>
                  </a:solidFill>
                  <a:latin typeface="Arial"/>
                </a:rPr>
                <a:t>IB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0" y="0"/>
            <a:ext cx="8991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: xpose data for DZ sib-pairs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0" y="3965400"/>
            <a:ext cx="9144000" cy="5189400"/>
            <a:chOff x="0" y="3965400"/>
            <a:chExt cx="9144000" cy="5189400"/>
          </a:xfrm>
        </p:grpSpPr>
        <p:grpSp>
          <p:nvGrpSpPr>
            <p:cNvPr id="133" name=""/>
            <p:cNvGrpSpPr/>
            <p:nvPr/>
          </p:nvGrpSpPr>
          <p:grpSpPr>
            <a:xfrm>
              <a:off x="744480" y="3965400"/>
              <a:ext cx="8120160" cy="4856040"/>
              <a:chOff x="744480" y="3965400"/>
              <a:chExt cx="8120160" cy="4856040"/>
            </a:xfrm>
          </p:grpSpPr>
          <p:pic>
            <p:nvPicPr>
              <p:cNvPr id="134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746280" y="3965400"/>
                <a:ext cx="8118360" cy="4856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5" name=""/>
              <p:cNvSpPr/>
              <p:nvPr/>
            </p:nvSpPr>
            <p:spPr>
              <a:xfrm>
                <a:off x="4712760" y="5991120"/>
                <a:ext cx="4183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808080"/>
                    </a:solidFill>
                    <a:latin typeface="Arial"/>
                  </a:rPr>
                  <a:t>cM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744480" y="4964040"/>
                <a:ext cx="478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808080"/>
                    </a:solidFill>
                    <a:latin typeface="Arial"/>
                  </a:rPr>
                  <a:t>IB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7" name=""/>
            <p:cNvGrpSpPr/>
            <p:nvPr/>
          </p:nvGrpSpPr>
          <p:grpSpPr>
            <a:xfrm>
              <a:off x="0" y="6413400"/>
              <a:ext cx="9144000" cy="2741400"/>
              <a:chOff x="0" y="6413400"/>
              <a:chExt cx="9144000" cy="2741400"/>
            </a:xfrm>
          </p:grpSpPr>
          <p:sp>
            <p:nvSpPr>
              <p:cNvPr id="138" name=""/>
              <p:cNvSpPr/>
              <p:nvPr/>
            </p:nvSpPr>
            <p:spPr>
              <a:xfrm>
                <a:off x="0" y="6470280"/>
                <a:ext cx="9144000" cy="2684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651960" y="6413400"/>
                <a:ext cx="2477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TH UK Twin Registe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0" name=""/>
          <p:cNvSpPr/>
          <p:nvPr/>
        </p:nvSpPr>
        <p:spPr>
          <a:xfrm>
            <a:off x="6759720" y="6419880"/>
            <a:ext cx="216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-inform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3591000"/>
            <a:ext cx="946800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140240" y="3506760"/>
            <a:ext cx="168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orm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GLM Extension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inary traits (binomial distribution, identity lin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digrees (not straight forwar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lected sibs (OK if have population paramete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ultivariate phenotypes (xtgee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762120" y="1828800"/>
            <a:ext cx="777240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Barber, Cordell, MacGregor &amp; Andrew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amma regression improves Haseman-Elston and Variance components linkage analysis for sib-pairs.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Genetic Epidemiology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26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: 97-107 (Jan 200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24379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762120" y="6094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nk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62120" y="1828800"/>
            <a:ext cx="777240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nkage refers to the close physical proximity of two loci on a chromoso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nce the aim of “linkage analysis”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to determine whether 2+ loci segregate independently in meio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762120" y="30492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utility of link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129528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oci can be mapped, by 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tracking the co-segregation of genetic markers with diseases/traits in famili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enerally taken to be the “ultimate” statistical evidence for a genetic component in disease aetiology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difficult to conceive of environmental factors that could simulate the co-segregation of a trait and a genetic marker through a pedigre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762120" y="533520"/>
            <a:ext cx="80769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 of linkage analy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1600200"/>
            <a:ext cx="8458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lassical link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del based: mode of inheritance, penetrance &amp; gene frequencies all specifi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mplex” or “Non-parametric” link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affected or quantitative trait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haring of alleles identical by desc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de of inheritance not specifi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e.g. ML variance components, regression based method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gression based linkage analysi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imple linkage analysis for quantitative traits using sib-pairs was performed by Haseman &amp; Elston (1972), in which a function of sib-pair </a:t>
            </a:r>
            <a:r>
              <a:rPr b="1" i="1" lang="en-GB" sz="3200" spc="-1" strike="noStrike">
                <a:solidFill>
                  <a:srgbClr val="000000"/>
                </a:solidFill>
                <a:latin typeface="Arial"/>
              </a:rPr>
              <a:t>phenotypic covarianc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is regressed upon a function of </a:t>
            </a:r>
            <a:r>
              <a:rPr b="1" i="1" lang="en-GB" sz="3200" spc="-1" strike="noStrike">
                <a:solidFill>
                  <a:srgbClr val="000000"/>
                </a:solidFill>
                <a:latin typeface="Arial"/>
              </a:rPr>
              <a:t>genetic covarianc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) at a single locus using OLS regres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nkage for unselected sib-pair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regression metho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rom Haseman-Elston, linkage can be defined as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rr(phenotypic correlation, genetic correlation) &gt;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pecifically for sib-pairs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rr( Var(X – Y) ,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 &lt;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iven an additive model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Var(X – Y) = E[(X – Y)</a:t>
            </a:r>
            <a:r>
              <a:rPr b="0" lang="en-GB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] = a +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– E[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]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est of linkage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: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= 0,  H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: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929120" y="3216240"/>
            <a:ext cx="36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 wher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= 1/2*p(IBD1) + p(IBD2) 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quivalence between regression &amp;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Gold Standard” ML variance components (VC) linkage analysis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ubsequent recognition that both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(X-Y)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and (X+Y)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provide linkage information (Gaines &amp; Elston 1969; Wright 1997; Xu et al 200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Under phenotypic normality, both (X-Y)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and (X+Y)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can be used to estimate Q, the proportion of phenotypic variance explained by a loc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otential equivalence between regression &amp; VC can be demonstrated for power (Sham, Purcell 2001 - large sample theory) and algebraically (Barber et al 2004 – MV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tatistical problem (=&gt; GLM)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LS regression assumes the error residuals are independent of the mean and ~N(0,1).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** Not true ** (Kruglak &amp; Lander 1995; Forrest 200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andard VC (VC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Arial"/>
              </a:rPr>
              <a:t>MVN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 does model the relation between the mean and variance (i.e. heteroscedasticity) but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apriori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fixes the unknown level of residual vari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**  Sensitive to deviations from MVN *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11T08:52:34Z</dcterms:created>
  <dc:creator>User</dc:creator>
  <dc:description/>
  <dc:language>en-US</dc:language>
  <cp:lastModifiedBy>Timber1</cp:lastModifiedBy>
  <cp:lastPrinted>2004-06-28T21:11:39Z</cp:lastPrinted>
  <dcterms:modified xsi:type="dcterms:W3CDTF">2004-06-29T12:05:05Z</dcterms:modified>
  <cp:revision>46</cp:revision>
  <dc:subject/>
  <dc:title>PowerPoint Presentation</dc:title>
</cp:coreProperties>
</file>