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01C-5B84-4D9C-A94E-ED8DB0DEA8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11 anya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cli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E46-1E4C-435A-BC81-CD5C7FC6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C00-1886-48C4-B662-0E63840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093-9AA9-4860-8E40-80AD4FB9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A44-2241-4BBC-924E-7C5A8696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3EA-F3C2-468F-9A25-F0C08C1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144-8026-417E-8E55-8DE0DF8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8B3-1459-4174-BBE4-FC2086A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63B-26AD-43AD-A3FC-E2B7F089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5F3-62E7-4A40-94B6-78FC5BD6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318-F06E-433A-9A38-45BBA6C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E3C-FFDD-41EC-B48A-6618AFB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1D7-D115-4CB5-A6A2-D9F1E6F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D082-3962-46E1-91D3-101BBF59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ata.com/stb/stb60/dm90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oth hazard functions for survival tim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garet 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artment of Social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Brist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ail: m.t.may@bristol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roportional Hazard as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1095480"/>
            <a:ext cx="7925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A code using stkerh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kerhaz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as written by Enzo Coviello and can be downloaded via STATA internet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STSE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set pdaysf, failure(dead) scale(365.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NA CUMULATIVE HAZARD GRAP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s graph, na by (idu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GENERATE NA CUMULATIVE HAZAR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s gen chaz = na, by(id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abel var chaz "Nelon-Aalen cumulative hazard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APPLY SMOOTH FOR IDU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kerhaz, bwidth(2) basecha(chaz) strata(idu)outfile(resul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gram produces STATA 7 graph, but results are saved to file so you can draw a STATA 8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tions – can work out CI, but not with strata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can plot hazards using several bandwidths, but not with strata or CI o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lson-Aalen cumulative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of death by IDU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314360"/>
            <a:ext cx="7619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more smo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1314360"/>
            <a:ext cx="7619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bandwid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1720" y="1066680"/>
            <a:ext cx="5199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by IDU status with 95% 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4440" y="1870200"/>
            <a:ext cx="68551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for CD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 test for CD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x hazards for CD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hazard functions in medical pro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ic and semi-parametric survival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non-parametric flexibl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in S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mortality of HIV positive patients treated with antiretroviral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of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 of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4 smoothed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8040" y="304560"/>
            <a:ext cx="84693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pretation of graphs - cav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8868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effect – not adjusted for other prognost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at any time 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itio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n surviving to that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groups (eg. CD4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&gt;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50) based on few events at times near to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de confidence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ape dependent on censor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467480" y="5867280"/>
            <a:ext cx="1511280" cy="760680"/>
            <a:chOff x="7467480" y="5867280"/>
            <a:chExt cx="1511280" cy="760680"/>
          </a:xfrm>
        </p:grpSpPr>
        <p:sp>
          <p:nvSpPr>
            <p:cNvPr id="106" name=""/>
            <p:cNvSpPr/>
            <p:nvPr/>
          </p:nvSpPr>
          <p:spPr>
            <a:xfrm>
              <a:off x="7467480" y="5869080"/>
              <a:ext cx="1511280" cy="75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9840" y="5945760"/>
              <a:ext cx="1208880" cy="605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hort Collabo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95400" y="649332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95400" y="586728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cens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977760"/>
            <a:ext cx="80769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censoring – plot to 5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333440"/>
            <a:ext cx="74678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4 smoothed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/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icial STATA hazard option in sts graph and stcurve compute symmetric kernel functions even in the tails of the analysis time where a restricted bandwidth operates, but stkerhaz uses asymmetric kernels which should give a superior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bugs in stkerhaz with some of the options – these will be sorted out so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u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algorithms for optimising choice of smoothing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itivity to censoring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t better to censor early, before data becomes 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use all the data and truncate the plot to an appropriate censoring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T Cohort Collaboration for us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o Coviello who wrote stkerh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04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371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19320"/>
            <a:ext cx="83329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kerhaz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stata.com/stb/stb60/dm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eslow, NE and Day, NE. Statistical Methods in Cancer Research Vol. II The design and analysis of cohort studies. Lyon: International Agency for Research on Cancer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lein, JP and Moeschberger, ML. Survival Analysis Techniques for Censored and Truncated Data (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d.) New York: Springer-Verlag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prognosis – visualize shape of hazar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erse events after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urrence of cancer after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tality from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x models (semi-parametric) and parametric survival models (Weibull, loglogistic, lognormal, gamma) constrain shape of hazard due to distributional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flexible approach based on Nelson-Aalen cumulative hazar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ible smoothed hazard function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t Nelson-Aalen cumulative hazard function – monotonically increas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ply a kernel smooth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mount of smoothing depends on bandwidt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fine gridpoints t_target on the range of the data (say 15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r data points t_obs that are within 1 bandwidth of the target point calculate increments in cumulative haz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eight these cum. haz. increments by some function (the “kernel”)of their distance from the target grid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eighted average is estimate of hazard at target grid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b at both ends of range, window defined by bandwidth is asymmetr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3400" y="304920"/>
            <a:ext cx="8629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 data: Antiretroviral Therap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hort Collaboration (ART-C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496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in 2000 to model prognosis for drug naïve patients starting highly active antiretroviral therapy (HA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cohorts from Europe, USA,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379 patients with 61,798 years follow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5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n prognostic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4 cell count (a marker of immune deficiency) in 5 grou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drug user (non-IDU v I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67480" y="5867280"/>
            <a:ext cx="1511280" cy="760680"/>
            <a:chOff x="7467480" y="5867280"/>
            <a:chExt cx="1511280" cy="760680"/>
          </a:xfrm>
        </p:grpSpPr>
        <p:sp>
          <p:nvSpPr>
            <p:cNvPr id="59" name=""/>
            <p:cNvSpPr/>
            <p:nvPr/>
          </p:nvSpPr>
          <p:spPr>
            <a:xfrm>
              <a:off x="7467480" y="5869080"/>
              <a:ext cx="1511280" cy="75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9840" y="5945760"/>
              <a:ext cx="1208880" cy="605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hort Collabo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95400" y="649332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95400" y="586728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earch ques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time since HAART became widely available in industrialis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baseline factors that continue to be prognostic some years after initiating HA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risk of death continue to decline with time from starting therap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50148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s there evidence of an upturn in risk perhaps due to intolerance of drugs, viral mutat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hazard functions for groups of patients starting treatment at different CD4 levels converge over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467480" y="5867280"/>
            <a:ext cx="1511280" cy="760680"/>
            <a:chOff x="7467480" y="5867280"/>
            <a:chExt cx="1511280" cy="760680"/>
          </a:xfrm>
        </p:grpSpPr>
        <p:sp>
          <p:nvSpPr>
            <p:cNvPr id="66" name=""/>
            <p:cNvSpPr/>
            <p:nvPr/>
          </p:nvSpPr>
          <p:spPr>
            <a:xfrm>
              <a:off x="7467480" y="5869080"/>
              <a:ext cx="1511280" cy="75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9840" y="5945760"/>
              <a:ext cx="1208880" cy="605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hort Collabo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95400" y="649332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5400" y="586728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8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s in this pres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 how the hazard of death changes over time for different baseline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IDU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D4 cell cou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hazards from Cox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e proportional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hazards derived from Nelson-Aalen cumulative hazard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exibl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67480" y="5867280"/>
            <a:ext cx="1511280" cy="760680"/>
            <a:chOff x="7467480" y="5867280"/>
            <a:chExt cx="1511280" cy="760680"/>
          </a:xfrm>
        </p:grpSpPr>
        <p:sp>
          <p:nvSpPr>
            <p:cNvPr id="73" name=""/>
            <p:cNvSpPr/>
            <p:nvPr/>
          </p:nvSpPr>
          <p:spPr>
            <a:xfrm>
              <a:off x="7467480" y="5869080"/>
              <a:ext cx="1511280" cy="75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9840" y="5945760"/>
              <a:ext cx="1208880" cy="605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hort Collabo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95400" y="649332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95400" y="5867280"/>
              <a:ext cx="80640" cy="1346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aplan Meier ID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of death by IDU status: C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425600"/>
            <a:ext cx="7467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0:18:44Z</dcterms:created>
  <dc:creator>mamtm</dc:creator>
  <dc:description/>
  <dc:language>en-US</dc:language>
  <cp:lastModifiedBy>mamtm</cp:lastModifiedBy>
  <dcterms:modified xsi:type="dcterms:W3CDTF">2004-06-28T07:40:48Z</dcterms:modified>
  <cp:revision>21</cp:revision>
  <dc:subject/>
  <dc:title>No censoring</dc:title>
</cp:coreProperties>
</file>